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5040" y="-144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504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64627AB-96F7-4EFA-BFDB-91B14A6C035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062160" y="8840880"/>
            <a:ext cx="8740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B377DDE-F67A-4546-B9B3-17D6D82B2D7D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5840" y="7012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58AE676-1F90-4378-A712-1042F08E084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D3F76A8-5EDE-411E-8814-3D8DE508E6C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5D592F0-798F-40C6-B291-1B2AE9C5CF5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415A4D3-8D18-4BF8-93BE-D3B46F27DB4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CCCCE48-ABB9-4E10-9CA4-07616880082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8B73CAF-7AC6-4A87-AD66-AE5CD760047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7BD48972-6308-4ADD-A561-6829DE69EA17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BA53FB90-EE5D-4A38-85BB-FD33AB0BF94A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26"/>
          <p:cNvSpPr/>
          <p:nvPr/>
        </p:nvSpPr>
        <p:spPr>
          <a:xfrm>
            <a:off x="1049400" y="1631880"/>
            <a:ext cx="789444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1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r>
              <a:rPr b="0" lang="en-US" sz="2800" spc="-1" strike="noStrike">
                <a:solidFill>
                  <a:srgbClr val="39536b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Exercise 9: Modified Checkbook Process </a:t>
            </a:r>
            <a:r>
              <a:rPr b="0" lang="en-US" sz="4000" spc="-1" strike="noStrike">
                <a:solidFill>
                  <a:srgbClr val="39536b"/>
                </a:solidFill>
                <a:latin typeface="Century Schoolbook"/>
              </a:rPr>
              <a:t> </a:t>
            </a:r>
            <a:br>
              <a:rPr sz="3100"/>
            </a:b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2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exercise, you will be abl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modified checkbook process to balance a checkbo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 on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marize data for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are data between exercises 7 and 9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Modified Checkbook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l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script (modified in exercise 8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lo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lo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type standar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plan summar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process and checkli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have added a review process and a checklist to the basic checkbook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Instru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17720" y="1747440"/>
            <a:ext cx="76802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ad through the checkbook process scripts that you modified in exercise 8.  Make sure that your modifications are clear, and that you understand the activities for each step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your modified checkbook process to balance the checkbook in the workbook for exercise 9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ke sure that all process forms are completed, including the time log, defect log, and plan summar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e:  transactions from exercise 7 are not included in this exerci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092480" y="6062760"/>
            <a:ext cx="160884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9536b"/>
              </a:buClr>
              <a:buFont typeface="Arial"/>
              <a:buChar char=" 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45 minu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3592440" y="5711760"/>
            <a:ext cx="64944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are this exercise to the results from exercise 7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id you do 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uch time did you spend in all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was this time distributed among the phas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d you balance the checkbook on your first try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d you make any mistak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mistakes did you mak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did you make them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the total times for all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mbers of the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the compare balanc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+ fix times for defect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at were not removed i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are balances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use these ter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 working definition fo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ork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Line 26"/>
          <p:cNvSpPr/>
          <p:nvPr/>
        </p:nvSpPr>
        <p:spPr>
          <a:xfrm>
            <a:off x="7518240" y="5384880"/>
            <a:ext cx="100332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7" name="Line 27"/>
          <p:cNvSpPr/>
          <p:nvPr/>
        </p:nvSpPr>
        <p:spPr>
          <a:xfrm>
            <a:off x="7518240" y="3860640"/>
            <a:ext cx="100332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4442040" y="2030400"/>
            <a:ext cx="2964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 =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X =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Rework % = 100 * X/T =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9" name="Line 29"/>
          <p:cNvSpPr/>
          <p:nvPr/>
        </p:nvSpPr>
        <p:spPr>
          <a:xfrm>
            <a:off x="7518240" y="2336760"/>
            <a:ext cx="100332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693720" y="1496880"/>
            <a:ext cx="8140680" cy="499140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693720" y="2957400"/>
            <a:ext cx="81406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>
            <a:off x="693720" y="4635360"/>
            <a:ext cx="81406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>
            <a:off x="4381560" y="1496880"/>
            <a:ext cx="0" cy="49914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fec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mar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clas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6" name="Picture 2067" descr=""/>
          <p:cNvPicPr/>
          <p:nvPr/>
        </p:nvPicPr>
        <p:blipFill>
          <a:blip r:embed="rId1"/>
          <a:stretch/>
        </p:blipFill>
        <p:spPr>
          <a:xfrm>
            <a:off x="2378160" y="1779480"/>
            <a:ext cx="6143400" cy="4587840"/>
          </a:xfrm>
          <a:prstGeom prst="rect">
            <a:avLst/>
          </a:prstGeom>
          <a:ln w="12600">
            <a:solidFill>
              <a:srgbClr val="39536b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4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did the calculation of rework compare to the previous iteration of the checkbook process exercis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did the calculations of yield compare to the previous iteration of the checkbook process exercis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did the distribution of defects injected and removed compare between the two iterations of the exercis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you identify any further improvements to the proces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2-06T15:19:28Z</cp:lastPrinted>
  <dcterms:modified xsi:type="dcterms:W3CDTF">2018-09-06T00:16:08Z</dcterms:modified>
  <cp:revision>130</cp:revision>
  <dc:subject/>
  <dc:title>No Slide Title</dc:title>
</cp:coreProperties>
</file>